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049-65A3-4C1B-B764-91F8F73E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931-74AF-4FD9-AAF3-09010C38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7C2-285A-4664-B515-91C828E3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810-0062-4C62-BA2A-AE253DDC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C787-B913-41F6-B944-29528021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53B9-7D66-424E-98EC-7A86322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E4F-15FB-4CEF-863A-3E8DE770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1EFF-CB65-4654-906F-6BE815F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9220-6502-4817-ABEE-CD309843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EB78-9BFE-46DE-9B7A-35765D5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4D6F-F9CF-4BA0-A5D4-95A49DD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59C-E938-4571-91B9-885FE4CB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4D2-04B4-420B-A6A8-78CB70D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374C-24AB-48D9-AB81-01D56F14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E3B8-4094-4BA8-BA6C-803E723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7819-5BE3-475F-A478-B6367C32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F5BE-7B8D-4E2E-B449-E127892E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10A9A-42DB-4F2C-969C-33AC85BB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D2287-8C5D-4D92-8947-416740B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8FC1F-8611-4AD5-BD29-D4AC953D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75E4C-E36F-40C2-9875-ECBD5FC6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022EF-6652-4A36-99A3-4F52E32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86B-4F8B-43EE-8DCB-CDFC673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518FF-E4A3-4AAD-8D44-DA339B9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EE67-A137-456A-B04D-DB9DB07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2C9CC-2552-445D-AE44-92A462A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559AA-471E-414C-B75F-CF630C4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2E427-DAE8-41E3-B483-75EAD984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8B70A-E514-42B6-BBEB-ADA17DF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381CE-E8F2-4AC0-A0D6-F7DE1C33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933A-3FF6-42EF-83B4-CEE8E3F4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2B50-DCF9-4379-A120-1439CE4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176E-3B9B-4A1C-AEE2-352ECBF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223-749A-4FD9-96F1-6C1E29A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05E5-F070-4B24-8E99-48C1ECB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0C6A-D754-48D5-ACD3-6C0B1BEE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8A1F-8033-4FF6-B701-88F66F18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28FA-BE21-4BC4-BCC5-98E71F0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176E-69C7-48DF-81E9-44C1F441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63B9-BF7E-4F74-A04A-4333E0B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56B7-5C6A-40BD-B146-C2F5052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049B-7635-49F2-8EC2-CE14AE3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AB20-9F97-4FC2-840B-489CDB02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EE1DD-F4C2-4245-875F-85510C34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003-AED5-40E9-9C7C-2D40DB4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9C185-574D-4FC2-AB7C-3C1191A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94FE5-8725-4476-918A-D791993E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91F5F-AB46-489E-9E92-0DD0488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2503B-BC7B-4058-8999-99FAB34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ACF5D-1BC6-4EC9-B3FD-DEF57E95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62304-CD8F-4E1C-A03A-F7EC8E1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6B847-8E94-47B2-A86A-95F709B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AFDF0-565E-485C-8334-E71C93B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D61AF-C782-460B-A385-73F2488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A0D57-5EB2-452D-A897-0BCE8F79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F89-B7D8-4384-8065-C0FA09E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02F9D-FB18-4D87-B34F-78F87988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56A51-7665-4195-A39F-678B5A66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E4DF7-D18F-4BE5-975A-2AF906E0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CB52E-F5D1-44B9-80AA-E90F3219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4983D-2ED2-4904-A1E4-61E946F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DE8BF-4E7B-4912-82ED-DB900B38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D3264-1C52-483F-A8A6-56F3BFC9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BE0E5-5797-400C-96AB-94BF81E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3AEC8-D7FC-4C9B-A0B1-F374C8A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E5623-6AA2-472B-B411-2E6E5FF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CEE-3BF9-473D-83CB-83B3A40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608B6-ADB9-4357-B222-C82796B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A53D1-B452-47DA-9368-F0906F1D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D072B-E5F8-4B86-981B-3607B176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D691F-CA9E-4F8E-B2BC-14475835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53A46-E787-4B76-B2A7-026BD4F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1010E-E677-4AEF-AAEF-774918E5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931FB-8598-4A29-96C9-91AB480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FE605-2DA3-4B76-8139-34B11F20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F75E6-CA46-48D3-8E2C-C6FB217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0F855-BFE1-4BAF-BBC4-1985A9B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49F-361C-401C-9474-C517BA9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F6253-8713-42A0-955F-7D215B4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D8254-C72F-4989-86C5-5CAF6EB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155E6-898C-4F4A-BABB-045D745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FB0A1-6465-464C-9D72-80C57445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55C52-6ABE-46D6-9161-53DA7805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D24-BD11-4BF0-AD41-F792B67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2EC-6852-435D-9507-E600FA0525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A36-9DBB-45DE-B2E4-5265949781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9173-0648-4051-8DDA-6B674B2798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7c7c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7c7c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d6d7d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d6d7d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c7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c7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FF5A-F4C9-4078-AF08-118D415D5D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97F6-B8F6-428D-8341-269C1A552B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3D4-8E89-4071-9A71-8691EB5FA3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2760-8BAC-4C17-9CB7-26569E09F2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Schoolbook"/>
              </a:rPr>
              <a:t>GUESS THE DISTANCE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By Amanda Cunha and Ashley Kershaw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2 SAMPLE T-TEST 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/g =    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/g       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21337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90512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6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21337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45338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SSUMPT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2209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independent 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/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g/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10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normal populations or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/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3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343400" y="1828440"/>
            <a:ext cx="3657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y were not SRS but was the best sample and both were independen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more than 1130 people with glasses/contacts and 720 people with neither in Montgomery County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/c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113) &gt; 3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(72) &gt;  3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92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375440" y="117504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2"/>
              <p:cNvSpPr txBox="1"/>
              <p:nvPr/>
            </p:nvSpPr>
            <p:spPr>
              <a:xfrm>
                <a:off x="1752480" y="304812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1752480" y="350532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1828800" y="45720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7" name="Text Placeholder 7"/>
          <p:cNvSpPr/>
          <p:nvPr/>
        </p:nvSpPr>
        <p:spPr>
          <a:xfrm>
            <a:off x="380880" y="6019920"/>
            <a:ext cx="7696440" cy="5331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ditions Met – Student t-distribution -2 sample t-te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ALCULATIONS AND CONCLUS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rcRect l="15000" t="25001" r="74376" b="70005"/>
          <a:stretch/>
        </p:blipFill>
        <p:spPr>
          <a:xfrm>
            <a:off x="2895480" y="2133720"/>
            <a:ext cx="2743200" cy="806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rcRect l="22269" t="34403" r="68521" b="57004"/>
          <a:stretch/>
        </p:blipFill>
        <p:spPr>
          <a:xfrm>
            <a:off x="3657600" y="2666880"/>
            <a:ext cx="1643040" cy="9144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0"/>
          <p:cNvSpPr/>
          <p:nvPr/>
        </p:nvSpPr>
        <p:spPr>
          <a:xfrm>
            <a:off x="563868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1.317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5238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P(t&gt;1.317  df=154.2590) = 0.19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traight Connector 13"/>
          <p:cNvSpPr/>
          <p:nvPr/>
        </p:nvSpPr>
        <p:spPr>
          <a:xfrm>
            <a:off x="3276720" y="3733920"/>
            <a:ext cx="0" cy="457200"/>
          </a:xfrm>
          <a:prstGeom prst="line">
            <a:avLst/>
          </a:prstGeom>
          <a:ln w="1908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5998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/g =   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/g       v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21337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21337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905120" y="2133720"/>
                <a:ext cx="804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0" name="TextBox 22"/>
          <p:cNvSpPr/>
          <p:nvPr/>
        </p:nvSpPr>
        <p:spPr>
          <a:xfrm>
            <a:off x="685800" y="47242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fail to reject Ho because the p-value of 0.19 is greater than  alpha 0.0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have sufficient evidence that the average distance guessed by those with glasses or contacts is equal to the average distance guessed by those without glasses or contact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2 SAMPLE T-TEST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 =    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       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19051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5"/>
              <p:cNvSpPr txBox="1"/>
              <p:nvPr/>
            </p:nvSpPr>
            <p:spPr>
              <a:xfrm>
                <a:off x="19051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6"/>
              <p:cNvSpPr txBox="1"/>
              <p:nvPr/>
            </p:nvSpPr>
            <p:spPr>
              <a:xfrm>
                <a:off x="167652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4944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SSUMPT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2209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independent 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normal populations or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3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43400" y="2133720"/>
            <a:ext cx="3657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y were not SRS but was the best sample and both were independen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more than 500 people with glasses and 630 people with contacts in Montgomery Count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63) &gt; 3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(50) &gt;  3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892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3754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1600200" y="304812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1600200" y="350532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219320" y="45720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7" name="Text Placeholder 7"/>
          <p:cNvSpPr/>
          <p:nvPr/>
        </p:nvSpPr>
        <p:spPr>
          <a:xfrm>
            <a:off x="380880" y="6019920"/>
            <a:ext cx="7696440" cy="5331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ditions Met – Student t-distribution -2 sample t-te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ALCULATIONS AND CONCLUS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 =    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       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51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5"/>
              <p:cNvSpPr txBox="1"/>
              <p:nvPr/>
            </p:nvSpPr>
            <p:spPr>
              <a:xfrm>
                <a:off x="19051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167652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35" name="Picture 3" descr=""/>
          <p:cNvPicPr/>
          <p:nvPr/>
        </p:nvPicPr>
        <p:blipFill>
          <a:blip r:embed="rId1"/>
          <a:srcRect l="15000" t="25001" r="74376" b="70005"/>
          <a:stretch/>
        </p:blipFill>
        <p:spPr>
          <a:xfrm>
            <a:off x="2895480" y="2133720"/>
            <a:ext cx="2743200" cy="806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2"/>
          <a:srcRect l="22269" t="34403" r="68521" b="57004"/>
          <a:stretch/>
        </p:blipFill>
        <p:spPr>
          <a:xfrm>
            <a:off x="3657600" y="2666880"/>
            <a:ext cx="1643040" cy="9144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0"/>
          <p:cNvSpPr/>
          <p:nvPr/>
        </p:nvSpPr>
        <p:spPr>
          <a:xfrm>
            <a:off x="563868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0.30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15238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P(t&gt;0.303  df=105.931) = 0.76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685800" y="47242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fail to reject Ho because the p-value of 0.76 is greater than  alpha 0.0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have sufficient evidence that the average distance guessed by those with contacts is equal to the average distance guessed by those without glass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Straight Connector 13"/>
          <p:cNvSpPr/>
          <p:nvPr/>
        </p:nvSpPr>
        <p:spPr>
          <a:xfrm>
            <a:off x="3276720" y="3733920"/>
            <a:ext cx="0" cy="457200"/>
          </a:xfrm>
          <a:prstGeom prst="line">
            <a:avLst/>
          </a:prstGeom>
          <a:ln w="1908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2 SAMPLE T-TEST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19051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19051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1752480" y="2057400"/>
                <a:ext cx="804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8" name="Content Placeholder 3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46483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SSUMPT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228564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independent 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normal populations or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3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343400" y="2133720"/>
            <a:ext cx="3657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y were not SRS but was the best sample and both were independen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more than 110 females and 750  males inMontgomery County 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110) &gt; 3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(75) &gt;  3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892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3754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600200" y="32004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1600200" y="350532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1752480" y="464832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Text Placeholder 7"/>
          <p:cNvSpPr/>
          <p:nvPr/>
        </p:nvSpPr>
        <p:spPr>
          <a:xfrm>
            <a:off x="380880" y="6019920"/>
            <a:ext cx="7696440" cy="5331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ditions Met – Student t-distribution -2 sample t-te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ALCULATIONS AND CONCLUS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m =   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m       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8108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0574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6"/>
              <p:cNvSpPr txBox="1"/>
              <p:nvPr/>
            </p:nvSpPr>
            <p:spPr>
              <a:xfrm>
                <a:off x="175248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65" name="Picture 3" descr=""/>
          <p:cNvPicPr/>
          <p:nvPr/>
        </p:nvPicPr>
        <p:blipFill>
          <a:blip r:embed="rId1"/>
          <a:srcRect l="15000" t="25001" r="74376" b="70005"/>
          <a:stretch/>
        </p:blipFill>
        <p:spPr>
          <a:xfrm>
            <a:off x="2895480" y="2133720"/>
            <a:ext cx="2743200" cy="806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2"/>
          <a:srcRect l="22269" t="34403" r="68521" b="57004"/>
          <a:stretch/>
        </p:blipFill>
        <p:spPr>
          <a:xfrm>
            <a:off x="3657600" y="2666880"/>
            <a:ext cx="1643040" cy="9144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563868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-0.3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5238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P(t&lt;-0.376 df=81.7625) = 0.71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6858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fail to reject Ho because the p-value of 0.71 is greater than  alpha 0.0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have sufficient evidence that the average distance guessed by males is equal to the average distance guessed by femal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Straight Connector 13"/>
          <p:cNvSpPr/>
          <p:nvPr/>
        </p:nvSpPr>
        <p:spPr>
          <a:xfrm>
            <a:off x="3352680" y="3733920"/>
            <a:ext cx="0" cy="457200"/>
          </a:xfrm>
          <a:prstGeom prst="line">
            <a:avLst/>
          </a:prstGeom>
          <a:ln w="1908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PPLICATION TO POPULATION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onclude that regardless of wearing contacts, glasses, or neither the people of Montgomery County do not show a significant difference in depth perception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an also conclude that there is not a difference in the depth perception of males and females in Montgomery Count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DESCRIPTION OF TOPIC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th perception- the ability to judge how far away an object is as well as how far away objects are from each oth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glasses depth perception can be impaire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because everything is simulated to be at the same distanc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also said contacts can affect ones depth perception as wel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BIAS/ ERROR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ound that people in groups guessed similar to each other, so they may not have been saying the distance that they actually fe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people did not take us seriously and said a random number when we asked for the distance between the c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nce it was right after the holiday season, many people were in a rush and did not want to answer our ques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aced the problem of involuntary response because not everyone wanted to answer our question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PERSONAL OPINIONS/CONCLUSIONS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original hypothesis that there would be no difference in the depth perception of those with glasses, contacts, or neither was correc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elt that it was difficult to ask people to participate in our data collection when they were going in and out of the stor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verall it was interesting to see the wide variety of respons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BACKGROUND OF TOPIC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decided to test and see if there was a significant difference in the depth perception of those who wear glasses, contacts or nei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lso wanted to test and see if there was a difference in the depth perception of females vs. m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6" descr="C:\Users\Amnda\AppData\Local\Microsoft\Windows\Temporary Internet Files\Content.IE5\XU6YH3EZ\MP900448376[1].jpg"/>
          <p:cNvPicPr/>
          <p:nvPr/>
        </p:nvPicPr>
        <p:blipFill>
          <a:blip r:embed="rId1"/>
          <a:stretch/>
        </p:blipFill>
        <p:spPr>
          <a:xfrm>
            <a:off x="5410080" y="34290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Amnda\AppData\Local\Microsoft\Windows\Temporary Internet Files\Content.IE5\0609KSNV\MP900314143[1].jpg"/>
          <p:cNvPicPr/>
          <p:nvPr/>
        </p:nvPicPr>
        <p:blipFill>
          <a:blip r:embed="rId2"/>
          <a:stretch/>
        </p:blipFill>
        <p:spPr>
          <a:xfrm>
            <a:off x="5410080" y="1523880"/>
            <a:ext cx="3048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PROCEDURE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put one cone next to us at Macy’s at the Montgomery Mal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measured 30 feet from the first cone and put a second cone the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stood next to the door of Macy’s and as people entered or exited recorded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lasses- if we could see th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no glasses were visible asked if they wore conta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they did not wear contacts, we recorded neither glasses nor conta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asked them to stand at the first cone and guess how far away the second cone was and recorded their answe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went to Macy’s on Monday morning, Thursday afternoon, &amp; Sunday even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http://t3.gstatic.com/images?q=tbn:ANd9GcR2Y86Key5TXsqv8B5p2JkNpckxR8Mghn0vAIrWujtyAvURXJs-HA"/>
          <p:cNvPicPr/>
          <p:nvPr/>
        </p:nvPicPr>
        <p:blipFill>
          <a:blip r:embed="rId1"/>
          <a:stretch/>
        </p:blipFill>
        <p:spPr>
          <a:xfrm>
            <a:off x="6629400" y="838080"/>
            <a:ext cx="2200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937040" cy="4032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6248520" y="2895480"/>
            <a:ext cx="1617480" cy="36496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EXPLORATORY DATA: CONTACTS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409720" y="1447560"/>
            <a:ext cx="344340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data is bimodal and slightly right skewed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median is at 34ft and the IQR is 15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range is 15ft to 60ft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re is a gap at 22ft and 55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3697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rcRect l="0" t="9676" r="0" b="0"/>
          <a:stretch/>
        </p:blipFill>
        <p:spPr>
          <a:xfrm>
            <a:off x="5486400" y="1371600"/>
            <a:ext cx="2952720" cy="4267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EXPLORATORY DATA: NEITHER CONTACTS NOR GLASSE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28800" y="533376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data is unimodal and right skewed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median is 34ft and the IQR is 17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range is 15ft to 59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46760" cy="403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2286000" cy="41432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EXPLORATORY DATA: GLASSE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562360" y="49525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data is unimodal with a right skew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median is 35ft and the IQR is 20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range is 15ft and 59 ft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SAMPLE POPULATION 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265200" cy="2666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265560" cy="26668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9144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emales vs. Males at the Montgomery mall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029200" y="4876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pulation of people with contacts, glasses, or neither in Montgomery Coun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ONCLUSIONS POPULATION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Montgomery County there is a greater population of people that wear neither glasses nor contacts. We then found that there is a greater number of people with contacts rather than glasses.  The glasses population is the minority in Montgomery Count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ound that there are more females going to the mall than males, which was expecte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44:53Z</dcterms:created>
  <dc:creator>Kershaw.A343</dc:creator>
  <dc:description/>
  <dc:language>en-US</dc:language>
  <cp:lastModifiedBy>Amanda</cp:lastModifiedBy>
  <dcterms:modified xsi:type="dcterms:W3CDTF">2011-01-10T02:22:29Z</dcterms:modified>
  <cp:revision>46</cp:revision>
  <dc:subject/>
  <dc:title>Slide 1</dc:title>
</cp:coreProperties>
</file>